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1E0-02FC-4046-9C23-ED670E5FDC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8579-C583-49A4-80B9-4ACA892ECD8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8DC-C5C8-4A02-9437-DDF18095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A29-353E-4DF9-A876-1764B164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A33-33E5-4217-9791-3CDF6529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C6A-AE93-4160-8FDA-49884B7A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D9AE-957C-4915-920F-818D4819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7E5A-9945-407F-B769-9F2BA8A0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1494-8931-4283-BBA8-764AEB8D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7A51-55E8-4DDB-987A-12C29229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0167-556F-4486-B76A-F2ABC832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598A-A334-4FDF-AB9F-16FB5742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0EC0-D50D-4304-935B-1BE50459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7A6-CD4D-482A-8E43-1EED082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1AB8-07A5-4BD2-B481-90095CC7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D7DB-F5CC-4229-8550-4CDB4954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C464-74D2-4CD9-8338-259E4CC0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4A98-9CAF-4A36-B114-8D5B858A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F20-0AE5-4B00-A268-474643BD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AE2-3866-400F-AC29-6C6747ED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5CE-4A9F-426E-87C7-34B1F1E0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1A2-7DE4-4930-BAE2-B759532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7E6-F776-4D62-B351-5E0F2FF5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EE3-9338-46CA-A2EB-25EE471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FF3-A195-41BC-ABAC-DAEFD552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2B0-C127-4D4D-9714-5F98F6F4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477120"/>
            <a:ext cx="761760" cy="30456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C10-DE11-4C8F-867B-A733666CEC15}" type="slidenum">
              <a:rPr b="1" lang="pt-BR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050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053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054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2055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2056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2057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2058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2059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60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2061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2062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063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64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065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066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067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68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069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070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477120"/>
            <a:ext cx="761760" cy="30456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9596-6C81-4965-83A0-FA5072E70E27}" type="slidenum">
              <a:rPr b="1" lang="pt-BR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5401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SSÉDIO MORAL NO TRABALHO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ahoma"/>
              </a:rPr>
              <a:t>ROBERTO HELOAN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267920"/>
            <a:ext cx="708660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assédio moral é uma conduta abusiva, intencional, freqüente e repetida, que ocorre no ambiente de trabalho e que visa </a:t>
            </a:r>
            <a:r>
              <a:rPr b="0" lang="pt-BR" sz="2800" spc="-1" strike="noStrike">
                <a:solidFill>
                  <a:srgbClr val="ffffcc"/>
                </a:solidFill>
                <a:latin typeface="Tahoma"/>
              </a:rPr>
              <a:t>diminuir, humilhar, vexar, constranger, desqualificar e demolir psiquicamente um indivíduo ou um grup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degradando as suas condições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e trabalho, atingindo a sua dignidade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 colocando em risco a sua integridade pessoal e profissional.”( p. 3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47640" y="6093000"/>
            <a:ext cx="6409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Ester d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FREITAS; Roberto HELOANI; Margarida BARRETO. </a:t>
            </a:r>
            <a:r>
              <a:rPr b="1" i="1" lang="pt-BR" sz="1600" spc="-1" strike="noStrike">
                <a:solidFill>
                  <a:srgbClr val="ffffcc"/>
                </a:solidFill>
                <a:latin typeface="Arial"/>
              </a:rPr>
              <a:t>Assédio moral no trabalho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 São Paulo: Editora Cengage Learning, 200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C:\Documents and Settings\Heloani\Desktop\Imagem1.jpg"/>
          <p:cNvPicPr/>
          <p:nvPr/>
        </p:nvPicPr>
        <p:blipFill>
          <a:blip r:embed="rId1"/>
          <a:stretch/>
        </p:blipFill>
        <p:spPr>
          <a:xfrm>
            <a:off x="28584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CaixaDeTexto 2"/>
          <p:cNvSpPr/>
          <p:nvPr/>
        </p:nvSpPr>
        <p:spPr>
          <a:xfrm>
            <a:off x="4429080" y="507204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heloani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1:41:12Z</dcterms:created>
  <dc:creator>ROBERTO HELOANI</dc:creator>
  <dc:description/>
  <dc:language>en-US</dc:language>
  <cp:lastModifiedBy>user01</cp:lastModifiedBy>
  <dcterms:modified xsi:type="dcterms:W3CDTF">2012-07-20T18:19:14Z</dcterms:modified>
  <cp:revision>11</cp:revision>
  <dc:subject/>
  <dc:title>CONCEITO EM CONSTRUÇÃ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